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88E-B89E-445C-9CAE-8F2B3123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5C8D-8DFA-444C-8929-F9AEC537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97BD-5F53-4685-A6D0-C92479AE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1E0-4D99-466F-94B6-C0D6C7D0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507-4587-4456-AAC5-B6CE76D4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B1EE-0F89-4869-A3DE-0939CFD1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3DC-3123-4744-BE00-88FA58D7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35F-8642-468D-8B04-72AB6174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01D-B463-4154-9329-4A07EB2F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0C9-F0B2-4DBA-8D5C-6BE9C98B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EF8-5FFD-4CA7-A38B-B92FAFFD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EC2-012B-4C69-9415-D8497518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ED11-CFFF-423D-9505-47EA683C5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aham Lincoln set us free from be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s.  He was a very good presid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408456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 was the first president  of the United States.  George Washington was a very great man.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00400" y="4191120"/>
            <a:ext cx="259092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6:34:21Z</dcterms:created>
  <dc:creator>smuser</dc:creator>
  <dc:description/>
  <dc:language>en-US</dc:language>
  <cp:lastModifiedBy>smuser</cp:lastModifiedBy>
  <dcterms:modified xsi:type="dcterms:W3CDTF">2010-01-11T17:00:13Z</dcterms:modified>
  <cp:revision>2</cp:revision>
  <dc:subject/>
  <dc:title>Comparing Presidents</dc:title>
</cp:coreProperties>
</file>